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ADBDC-1204-43BE-8C2E-F567E5E0C2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5859D-C9A2-4311-8A5C-C28E0DA91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66C8BC-72F5-43C6-B91B-99A5442F9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CC7187-D9AA-4E96-9C51-A94E06B0D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D3401-47F8-4359-B5C3-ED258A96E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56CB4-CDF6-43C9-9F2C-4A5A72A30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94C99-A4C3-450E-B142-9C970FA8D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FF5EA-5C6F-44DF-A4A1-E28D7B8FD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0CF43-EFF7-4A33-AD8B-79848407E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34472-9C23-4EA2-A555-86BDEE8AA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C4EE0-B757-4E1B-B214-17EB64BBE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5AFF7-9F23-4EC3-8241-563004495E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6C94D-D9D8-458A-AC11-896D648E703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Skeleton Ke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sons to read it</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You should read this story because it is creepy and makes you cringe.  Especially with the rats eating the flesh off of the skeletons and with the sharks in the water.  Really creeped me ou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You should read this story because it describes the scenes a lot, which really helped me to see what was going on in my head when I read.  I like th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You should read this story because it makes you think.  It’s not an easy story to get the hang of because there are different parts to it and the narrator kind of jumps here and there with what he is talking about. So it’s kind of challenging, but that’s why you should read it because it makes you think hard when you read.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ctures for my read-aloud</a:t>
            </a:r>
            <a:endParaRPr b="0" lang="en-US" sz="4400" spc="-1" strike="noStrike">
              <a:solidFill>
                <a:srgbClr val="000000"/>
              </a:solidFill>
              <a:latin typeface="Calibri"/>
            </a:endParaRPr>
          </a:p>
        </p:txBody>
      </p:sp>
      <p:pic>
        <p:nvPicPr>
          <p:cNvPr id="46" name="Picture 2" descr="C:\Documents and Settings\Tiffany\Local Settings\Temporary Internet Files\Content.IE5\ZEDPWH92\MCj03438330000[1].wmf"/>
          <p:cNvPicPr/>
          <p:nvPr/>
        </p:nvPicPr>
        <p:blipFill>
          <a:blip r:embed="rId1"/>
          <a:stretch/>
        </p:blipFill>
        <p:spPr>
          <a:xfrm>
            <a:off x="609480" y="5257800"/>
            <a:ext cx="1725840" cy="1386000"/>
          </a:xfrm>
          <a:prstGeom prst="rect">
            <a:avLst/>
          </a:prstGeom>
          <a:ln w="0">
            <a:noFill/>
          </a:ln>
        </p:spPr>
      </p:pic>
      <p:pic>
        <p:nvPicPr>
          <p:cNvPr id="47" name="Picture 3" descr="C:\Documents and Settings\Tiffany\Local Settings\Temporary Internet Files\Content.IE5\3Z4M3F8U\MPj04329090000[1].jpg"/>
          <p:cNvPicPr/>
          <p:nvPr/>
        </p:nvPicPr>
        <p:blipFill>
          <a:blip r:embed="rId2"/>
          <a:stretch/>
        </p:blipFill>
        <p:spPr>
          <a:xfrm>
            <a:off x="304920" y="1143000"/>
            <a:ext cx="5943600" cy="3962520"/>
          </a:xfrm>
          <a:prstGeom prst="rect">
            <a:avLst/>
          </a:prstGeom>
          <a:ln w="0">
            <a:noFill/>
          </a:ln>
        </p:spPr>
      </p:pic>
      <p:pic>
        <p:nvPicPr>
          <p:cNvPr id="48" name="Picture 4" descr="C:\Documents and Settings\Tiffany\Local Settings\Temporary Internet Files\Content.IE5\ZEDPWH92\MCj02326660000[1].wmf"/>
          <p:cNvPicPr/>
          <p:nvPr/>
        </p:nvPicPr>
        <p:blipFill>
          <a:blip r:embed="rId3"/>
          <a:stretch/>
        </p:blipFill>
        <p:spPr>
          <a:xfrm>
            <a:off x="5791320" y="5170320"/>
            <a:ext cx="3108240" cy="168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8T01:15:18Z</dcterms:created>
  <dc:creator>Tiffany A. Brewer</dc:creator>
  <dc:description/>
  <dc:language>en-US</dc:language>
  <cp:lastModifiedBy>Tiffany A. Brewer</cp:lastModifiedBy>
  <dcterms:modified xsi:type="dcterms:W3CDTF">2008-11-18T01:53:21Z</dcterms:modified>
  <cp:revision>2</cp:revision>
  <dc:subject/>
  <dc:title>Three Skeleton Key</dc:title>
</cp:coreProperties>
</file>